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C128-0BC5-46A6-94C6-1C373012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CE1A-BF79-47A2-AB3A-E917A2D0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2BA6-BDBF-40BF-B0E8-381B59EC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0840-0C52-4489-A51C-9D27B728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581D-D666-494A-AEC8-3ADB1F62F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CD5-AD75-4EC4-AE13-F4C009C17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B839-D8D6-4612-B678-62DDF055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ADC4-DFEE-414D-9CFE-05EE280DE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133B-71AC-400B-9558-205116EB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DE33-4A65-45DB-AE11-9BEBD441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434E-35E3-48AD-8284-D0E24624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ECC-DB5E-4E0F-A233-4A903A62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A03FB-4957-4215-BF07-38925AD32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47440" y="738000"/>
            <a:ext cx="85676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Train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For Classroom Teachers who Take Attendance and/or Give Grad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PowerTeacher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222120" y="2209680"/>
            <a:ext cx="977904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To access the PowerTeacher Online Help, click the Help icon, which looks like a question mark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8186760" y="914400"/>
            <a:ext cx="105876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aily Bullet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203040" y="820440"/>
            <a:ext cx="927288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not create entries for the daily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read the notices and send a message to the person in charge of maintaining the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ow to View the Daily Bulleti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n the PowerTeacher main menu,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Daily Bulletin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 The Daily Bulletin page displays today's announcements and links to previous bullet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date links at the bottom of the page to view that day's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e-mail address at the bottom of the page to send a message to the person who issues the announcements. Depending on your default e-mail application, an e-mail form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plete the e-mail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end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taff Directory and Meals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NOT use these function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ntinue to contact people from your building using the CMCSS email system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ersonal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46160" y="1066320"/>
            <a:ext cx="977904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hange Password Feature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O NOT CHANGE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efault Student Screen Feature - A teacher can choose which student screen appears first when the BACKPACK icon is clicked. Other screens can then be selected from the Select Screens dropdown menu at the top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isplay Section Number - Choose Yes/No to show or hide section numbers on the Teacher's Homepage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chool/Term Select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22120" y="11430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DEFAULT school is the school to which a teacher is assigned. You will need not to chang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terms will change automatically as the year progresses. You should glance at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term selector 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each time changes are made to ensure the correct term is displa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99920" y="3048120"/>
            <a:ext cx="855972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GradeBook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714320" y="4572000"/>
            <a:ext cx="67309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each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Quick Entry Ti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Select 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Quick Entry Tips </a:t>
            </a: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on the PowerTeacher gradebook just above the Launch Gradebook button for keyboard shortcuts.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ing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22212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s must have Java 1.5 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LAUNCH GRADEBOOK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*You may get one or more dialog boxes… Click OK or Trust. (If you click the option to Always Trust it will stop some of the windows from appea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You should then see your Class Grad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0080" y="1828800"/>
            <a:ext cx="4699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eft Marg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es Selection B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oup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p Menu Bar (Tab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Set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70400" y="1828800"/>
            <a:ext cx="4699080" cy="46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ion Window - Shows the "Page" associated with each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Menu Bar-Very Top -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ol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ind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616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PowerTeacher Gradebook is configured for immediate use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several slides cover what you will need to set up once…at the start of each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You will configure your actual gradebook with your Point of Contact during the first days in y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est Server Login - For Training Only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22120" y="152388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best to use Firefox or Safa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est Server Address:</a:t>
            </a: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is is a dummy account login information to be provided on training day for use during training on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                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review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 Weigh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adeBook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ing Gradescales - these are set up by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ing Class Inf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reat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ublish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utput Options- Scoresheets, Statistics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arents' and/or Students' View of PowerSchoo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46160" y="12193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On the gradebook menu bar, choos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Tools &gt; Categories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th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Plus 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(+) button in the lower left corner of the window. Enter your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Close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 (Categories will be sav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1880" y="1074240"/>
            <a:ext cx="977580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AN set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in Final Grade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**Important**** If this box is not checked, it wil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cou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criptions- Category descriptions can be viewed by administrators an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Final Grade Weigh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6160" y="1360080"/>
            <a:ext cx="976464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will determine how 9 weeks grades are calculated - Total Points or Category Weights. Your Point of Contact will help you set this up in a meeting at your schoo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Option 1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Total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Option 2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ategory Weigh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erm Weights for Semesters 1 and 2 will be provided for you by your Point of Contact during gradebook setup. (Standard District Setu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nal Grade Set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can be set by clicking on the Grade Setup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setup determines how final grades ar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The final grade is calculated continuously so you always know a students current final gra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hoose the desired reporting term in the upp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the desired calculation method in the low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****You can also decide here if any low scores are dropp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Student Groups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46160" y="14479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EFAUL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group is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ENTIRE CLAS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 S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– is a Collection of Groups.  You must create a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E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before you can mak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GROUP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SET might be Reading or Math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 GROUP - a small collection of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like Reading Group 1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a Set and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LUS button (+) in the lower left hand co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t will automatically create Untitled Set 1 and Untitled Group 1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Set 1 and enter a name for the set, such as Reading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Group 1 and enter a name for the Group, such as Early Readers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f you need to add more Groups under a Set click the PLUS (+) and choose Add Group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eat steps 2-5 until all Sets and Groups are comple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Students to a Gro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3720" y="1015560"/>
            <a:ext cx="977580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 and Click on a student's n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rag the name of the student to the appropriat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add student to all of the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You CANNOT add a student to more than one GROUP in the same SE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LETING STUDENTS FROM A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a student's name in the group lis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minus (-) button at the bottom lef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OVING STUDENTS BETWEEN GROUPS WITHIN A S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the arrow to the left of the group name to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name of the student you want to move and drag it to the folder for one of the other groups in the s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PT GradeBook Preferences</a:t>
            </a:r>
            <a:br>
              <a:rPr sz="4300"/>
            </a:b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o set how grades are calculated and stored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2800" y="2168640"/>
            <a:ext cx="9775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OWERTEACHER GRADEBOOK menu (MAC) or the TOOLS menu (PC) at the top and select PREFEREN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options to meet school or district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ounded - EX. 89.75 would be rounded to 90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cimal Places - Select how many decimal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Viewing Gradesca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****The gradescale is determined by the district and will be loaded in the GradeBook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o View the Grade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Tools menu, and click Grade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DEFAULT gradescale will be viewabl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5800" y="609120"/>
            <a:ext cx="9775800" cy="19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ging into PowerTeacher- For Actual Use of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91880" y="2057040"/>
            <a:ext cx="977580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444"/>
                </a:solidFill>
                <a:latin typeface="Arial"/>
              </a:rPr>
              <a:t>User Name: Your MUNIS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444"/>
                </a:solidFill>
                <a:latin typeface="Arial"/>
              </a:rPr>
              <a:t>Password: FL****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(firstlastinital and last 4 of your SS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Never SHARE your User Name or PASSWORD with ANYONE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444444"/>
                </a:solidFill>
                <a:uFillTx/>
                <a:latin typeface="Arial"/>
              </a:rPr>
              <a:t>DO NOT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 change your passwor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Editing and Viewing Class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Choose a class from the Classes Pane (Top Le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lick the CLASS INFO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3. You can add a description of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ype in the description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dd a web link if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***Remember that descriptions can be viewed by the administrators, students, and parents.  This can be very useful, but BE CAREFUL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06040" y="1723680"/>
            <a:ext cx="85676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Adding Assign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69680" y="3047760"/>
            <a:ext cx="67230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Most of the GradeBook items covered prior to this ar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one-time set-u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he following slides cover th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daily</a:t>
            </a: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 adding of assignments and grades, and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istrict Grade Publishing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  All graded assignments MUST be published!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By Midnight every Monday, all assignments from the previous week MUST be published!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est Practice: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  Timely Feedback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y current in grading, recording, and publishing assignments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Parents will be told to check on Tuesday mornings for previous week's grades in order to provide guidance and intervention for their childr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6160" y="11430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dd Assignment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1. Select a class, then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ssignments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or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coresheet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2.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lus (+)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button. 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3. Click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4. Click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ublish T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5. Click Drop Down to set date to be pu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Immediately is the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NEVER is not an op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90080" y="1828800"/>
            <a:ext cx="46990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ame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ange the abbreviation name if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the category to which the assignment belo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Score type and Points Possible are preset based on the category information you ch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70400" y="1828800"/>
            <a:ext cx="4699080" cy="54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ight- you can assign a weight to an assignment.  *Remember that you have already set weights for catego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ue Date - The default due date is today's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 the box to "include in final grad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 the assignment descriptio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eleting an Assign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46160" y="121932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ighlight the assignment by clicking on its h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Click the Minus (-) button next to the assignment header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You will get an "Are You Sure?" dialog box. Click de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A deleted assignment CANNOT be retrieved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What You Will See on the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hen you have chos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Class (Top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Group (Middle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ter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ing Term (be carefu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ategory (Al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 (Activ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will see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ist of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 Sc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Grades to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53720" y="1131840"/>
            <a:ext cx="977580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class or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the Reporting Term and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dd scores fo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Sa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Once you save, the current Final Grade will upd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PY ASSIGNMENTS, DELETE ASSIGNMENTS, FILL SCORES, AND/OR CLEAR SCORES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 title at the top of the colum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ight click or Control Cli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desired 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ublish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91880" y="1252440"/>
            <a:ext cx="977580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Assignments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Select the assignment you want to publish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Assignmen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-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menu, choose when to publish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n Specific Dat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date the assignment should appear 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te On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5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number of days the assignment should appear prior to the date that it is due i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6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lter A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298440" y="1142640"/>
            <a:ext cx="9485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ools, Select Score Insp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he  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5000" y="1095120"/>
            <a:ext cx="988848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Icon - (Top Left) Click this icon anytime to return to the Start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Classes Window - (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Chair - Atten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e Dot - Attendance Completion Indica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tensils - Lunch Coun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ackpack - Student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er - Print Class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nu - (Left Margin) - Links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rt Page, Daily Bulletin, Staff Directory, Meals, Personalize, Gradebook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ool/Term Selectors - (Top 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iece of Paper - (Top Right) - Report Que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estion Mark - (Top Right) - PowerTeacher 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ogout - (Top Right) -  Click to exit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881840" y="590400"/>
            <a:ext cx="1925640" cy="466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872560" y="4210200"/>
            <a:ext cx="11253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 the Score Inspect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42560" y="1145880"/>
            <a:ext cx="977580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pen the Score Inspec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rk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 Or, ope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lick in the assignment column of th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student for whom you want to enter 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ssignment stat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press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checkbox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 a Final Grade Com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91880" y="1703520"/>
            <a:ext cx="9775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Ope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upd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Manually enter final grade comments i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eld and/or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Bank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elect one or more predefin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mments. Use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N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rrows to repeat for each student, 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pplicab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nually Override Final Grad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233280" y="1190520"/>
            <a:ext cx="975528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a term from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Filter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Reporting Term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Open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pdate. The final grade field app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ighligh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4. Select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Manual Overrid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box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nter the new grade in the appropri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and enter any comments i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if applicable. Use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Nex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rrows to repeat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ach student, if applic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Reports Availab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50840" y="1066320"/>
            <a:ext cx="9918720" cy="59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he following reports are available on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gradebook Reports tab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Attendance Gr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ategory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Final Grad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Verifica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Individual Student Repo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issing Assignment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ulti-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 Roster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To access the PowerTeacher gradebook Online Help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click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44444"/>
                </a:solidFill>
                <a:latin typeface="Arial"/>
              </a:rPr>
              <a:t>Help &gt; Conten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on the menu bar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ou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LOGOU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y clicking on the logout button at the top of the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s should make it a habit to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gout after entering or viewing data.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*If a teacher does not logout, private student information may be available to anyone with access to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aking Attend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46160" y="1523520"/>
            <a:ext cx="985032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n attendance indicator (chair) icon appears next to each class. The color of the dot indicates whether or not you've taken attendance for that cla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chair icon next to the class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hich you want to take attendan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the appropriate attendance code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urrent attendance cod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up menu.  A=Absent or T=Tard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the cell next to each student who is absent or tardy to insert the code you chose from the pop-up men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118280" y="95400"/>
            <a:ext cx="2727360" cy="14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ubmitting Lunch Cou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( Elementary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utensil icon next to the class for which you want to submit a lunch cou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Enter the lunch counts in the field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7920000" y="228600"/>
            <a:ext cx="1925640" cy="15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Student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backpack icon next to the class you want to view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lick the student’s na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a student page to access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elect Screen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Have a look at the Select Screens you may choo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8034480" y="181080"/>
            <a:ext cx="203976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lect Screens  *******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90440" y="1828800"/>
            <a:ext cx="97790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mulative Grade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eting Attenda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et/Phone Access Summary - Parent and student acce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 a Repor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ick Look-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e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Pho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Log Entry - ***Do NOT use thi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 Com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0440" y="304920"/>
            <a:ext cx="977904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rinting School Reports or Report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5800" y="1676160"/>
            <a:ext cx="977580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Your school creates the reports available to you in Power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printer icon next to the class for which you want to print a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hoose the report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Which report would you like to pri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the watermark text (optional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Choose when you want PowerSchool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repare your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7815240" y="5943600"/>
            <a:ext cx="1792440" cy="14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